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ct" ContentType="image/x-pict"/>
  <Override PartName="/ppt/media/image13.pct" ContentType="image/x-pict"/>
  <Override PartName="/ppt/media/image8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6E66-6B3A-4D0F-9016-D29D924F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E10-21DF-4B4D-829D-1EAA7426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9B75-D00A-4017-AD8B-AEF40080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05D6-01F5-4B8E-98C0-248707F3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82E3-FAD2-4C9F-8C88-662DCF9F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8D6-809F-4906-A6AA-7AAE7D4D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3BA-243C-48A4-BB81-405BAEC5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B18A-E983-48DD-94C9-27DAFC85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B91B-F7B1-4724-B865-A3BC21BE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FE9-B979-4051-BD16-DD3EDEBD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91C5-6CB3-4954-8FE8-FA5DFD72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9D6-B534-45B1-99DE-0C1FB6A0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A9AB-1B77-4CF8-8095-955B52B4D1B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2941-E28A-4BA3-837A-56B4E725D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slide" Target="slide40.xml"/><Relationship Id="rId17" Type="http://schemas.openxmlformats.org/officeDocument/2006/relationships/slide" Target="slide44.xml"/><Relationship Id="rId18" Type="http://schemas.openxmlformats.org/officeDocument/2006/relationships/slide" Target="slide44.xml"/><Relationship Id="rId19" Type="http://schemas.openxmlformats.org/officeDocument/2006/relationships/slide" Target="slide48.xml"/><Relationship Id="rId20" Type="http://schemas.openxmlformats.org/officeDocument/2006/relationships/slide" Target="slide50.xml"/><Relationship Id="rId21" Type="http://schemas.openxmlformats.org/officeDocument/2006/relationships/slide" Target="slide2.xml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9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0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1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2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6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7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8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9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0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1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396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1209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-622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ombus, Rectangle,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1209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oid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15084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Quadrilat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750960"/>
          <a:ext cx="9067680" cy="610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50960"/>
                    <a:ext cx="9067680" cy="61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for 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 = 142.9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values of the variables that make the figure a parallel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2209680"/>
          <a:ext cx="8534160" cy="420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53416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22.7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1905120"/>
          <a:ext cx="9144000" cy="447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44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values of the variables that make the figure a parallel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o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905120"/>
          <a:ext cx="8686800" cy="431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868680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values of the variables that make the figure a parallel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 = 4 and x = 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920" y="1981080"/>
          <a:ext cx="8458200" cy="43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458200" cy="43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values of the variables that make the figure a parallel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 = 4 and y = 4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m of the exterior angles in degrees of a polygon with 100 side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2590920"/>
          <a:ext cx="8153280" cy="27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8153280" cy="27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e if it is a parallelogram. Justify your answ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o, since opposite sides are not parallel and congruent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sentence: The sides of a rhombus are 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gruent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sentence: The angles of a rectangle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right angle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sentence: The diagonals of a rectangle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gruent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sentence: The diagonals of a rhombus________ and 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perpendicular and angle bisector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360 degre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sentence: The square is a combination of ________ and 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rhombus and rectangl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sentence: The diagonals of a kite 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erpendicular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for 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57200" y="1981080"/>
          <a:ext cx="8381880" cy="42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381880" cy="42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 = 13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for x in the Trapezo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828800" y="1338120"/>
          <a:ext cx="6172200" cy="55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338120"/>
                    <a:ext cx="6172200" cy="55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 = 1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for x and y in the Trapezo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600200" y="1447920"/>
          <a:ext cx="6019920" cy="49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47920"/>
                    <a:ext cx="60199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 = 6 and y = no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m of the interior angles in degrees of a polygon that has 10 sid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for x in the k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85800" y="1219320"/>
          <a:ext cx="7924680" cy="530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92468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 = 11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rapezoid with congruent leg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isosceles trapezo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he most specific name for the quadrilatera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057400" y="1676520"/>
          <a:ext cx="487692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676520"/>
                    <a:ext cx="48769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hombu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he most specific name for the quadrilatera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81080" y="1828800"/>
          <a:ext cx="4648320" cy="45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46483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arallelogr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he most specific name for the quadrilatera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286000" y="1905120"/>
          <a:ext cx="4414680" cy="44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905120"/>
                    <a:ext cx="44146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quadrilater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1440 degre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for x in the Squ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905120" y="1295280"/>
          <a:ext cx="508464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0846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22.63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for 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43000" y="380880"/>
          <a:ext cx="7696080" cy="635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880"/>
                    <a:ext cx="769608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51.03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62120" y="1523880"/>
          <a:ext cx="7315200" cy="50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315200" cy="50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for 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 = 105.8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STAFF TGHS</cp:lastModifiedBy>
  <dcterms:modified xsi:type="dcterms:W3CDTF">2011-04-19T22:40:14Z</dcterms:modified>
  <cp:revision>35</cp:revision>
  <dc:subject/>
  <dc:title>Blank Jeopardy</dc:title>
</cp:coreProperties>
</file>